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2C1F-B662-476C-AF31-4A1757539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1E95-E3AB-4721-80F8-2CBDC32DD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F91F34-BC89-41F1-8FDF-63E086B37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360F62-6810-46C8-A25E-13DC91AAD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E0B3B2-2009-4218-B047-D57884D35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01B862-21DC-4712-8E31-5FA5761A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0FEB0C-509E-4026-8A1B-600DCBE7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547CEE-F0A1-4A4E-AD0F-AE8D202C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42F2C0-6348-467A-A32F-BFBC67154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010C6F-3384-493C-BBCE-FA778F33A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D4796A-A4D7-4A02-80E4-330368081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CB8D4F-4BB8-4143-B865-B6C7A7BB6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7F9A-2D55-4BFA-8EFA-880C31E73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7EFAC5-06A6-417F-8E95-5DFFAA89E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50D0FB-BBA7-40E1-8410-85F6AA9D7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D5BC01-0E8D-4B12-84B4-94D2113B0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715F5C-FB3E-4645-A2FA-478C32B2B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B92CCB-CA7C-4C62-97C0-E7876EEEC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5FEA9E-8080-4482-BCC1-9C1B2534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5802E0-45B8-42BA-A358-75918F4A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38F20D-101F-4D62-9C86-D7E58EB4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3ACF07-93F6-4DBA-92FA-D92B32D2E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62519C-8DD5-4788-970B-DEF5FA82F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7495-67E8-4413-8A1F-229B04BFF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7F9EE8-9F51-4366-ADA9-ECF0BE84B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310741-D624-4540-9AE2-89851108E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FE2C9A-39F9-487A-B968-5BC150291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BE3196-52B9-402C-9280-A7A6E8A45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8D2E35-E32E-454C-BAD1-E5D5627FF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394C66-3C8A-4B19-AADE-098945190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AA2ED9-8588-4F01-A5F4-C64AF0776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62EDC7-4EB9-476D-A7ED-5C520A7A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4300AC-8044-4F56-92E3-C26556CC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5486BB-E9AB-439D-870A-B43FD8AD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CF569-A16B-4A7F-A2BA-22DAE2059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8CB945-E21C-4BDF-B3D8-889723A06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DCB649-C576-4843-A8BF-9682F364C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90567D-3887-43AA-9125-9637386C3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1F4AC6-0564-4637-A3AC-B929CF756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4B594A-BBF9-4C9C-8DDB-3FA248FBA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8AA05E-81C6-40E1-976B-AEE355DAC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D3C7A5-6A69-408D-A0E4-7727B6322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1574D7-97C5-453F-B259-776C308A8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6AC9C9-5FDE-471C-B6CB-C014628D9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DC5C97-0FE1-4997-A567-1CD1A41E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33BC4-A397-41A1-90D7-F98D4AA23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89F4D2-5A3F-422B-BEAA-C7C1C079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7B2F34-9E16-4238-BA22-B7F0AA77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64D356-7455-45AE-8DA5-57D79111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DC07AC-4318-4256-AF32-A3D864372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57DA56-EFB8-4A6C-8F62-DCB5B2CD7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AC22EA-8780-49EB-BCC4-8808FF6CE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7BA176-6398-4575-AC4B-6E2DFCB46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CE032E-1A2E-4A4F-9A8C-C5B8864DD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502356-6B00-42B7-B488-2808F57D8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DDD8BB-CD1E-46F8-9BC4-B9576272E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3A12C-6596-4E34-AC20-B963FA6B8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4F7F9B-AD0F-4520-A8B2-D3C3BCBAD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43DD76-0E6C-40FF-8826-A6F54A93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83AB7E-8E9F-44D2-8CBE-ECDFB0B5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93094D-C725-4A55-9551-8353FEDF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921312-D128-4BB9-963B-4D60B51F8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C76EC2-F195-43C7-B791-25CFA54A1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62C8DB-2E6C-4908-A6BB-BE74280BE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175E79-C6AE-4E58-A581-E4F3F8265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98B0DC-20C7-4287-A714-696C73749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1E2C5F-C965-46B6-A773-F12E0BF7A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F085B-E240-45B7-849F-12C03CA15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1197EC-7FF1-4667-9D23-EDBE6E81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A07DE1-8E05-4DE2-B986-2EF0AFB99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E003AE-F4A7-4E4F-A762-B073AF11E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65ECF9-7B77-44AF-A2FC-3338E5F8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BFD640-59C3-46DE-995B-2B934D19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C6B045-C92F-4FD3-80F3-16304E54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2148E2-A85A-4DC8-9E18-00B1B97FD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196B9A-62EC-4EEA-8826-E65FF7090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FA3663-2988-4E0F-838B-8EF7D0754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3539EF-8B25-40B2-AF9A-27DF5C14A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8D2EC-E42A-4967-9C5A-B2D506C96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1CF4E0-4D6D-437E-8542-515FAFEC7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1AF497-79F3-42B3-B48D-B7A7DFFEF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E60584-DEF6-44E2-BE64-E572C70C1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9085EC-171C-43DB-8E0C-09014F671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43A657-9494-4D67-B73B-07913279C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D97D82-4F4A-466B-9DF6-1C38BAFD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07B60B-DC64-4E4C-BC66-279B887D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CD82BC-B740-488C-B79D-862881ED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1DA4FC-90A9-45BC-96EF-36C8A733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8218C0-3AB5-4C37-B283-C43CF47D0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8FF5E-87F0-4177-8444-EAF3E7029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C74CDE-A964-4787-8BCA-65363DD13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698773-B2DC-4341-9A56-DDED7D3ED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5D8C21-243B-4ACB-809B-7641B52F6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E5004F-DD96-47B1-9B55-AB0686185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1208F4-E05E-45FC-9079-60A991DA1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210994-2664-43F3-BE40-0CD2180BB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615A05-5F11-4560-B005-62C355D1B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3A2C8B-09D8-4A87-AE5F-3418F332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33DDE9-96F9-46BE-903E-C689A4BD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2D0F9F-B5E6-45B4-ADBC-898E73CC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08D33-CD00-4ADE-82A3-C58ADA51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972D58-C7C3-461A-B6BD-AABCD0809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756119-15D3-421E-8755-EE0331368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5A3447-A5A1-4E77-8271-5ED52A6AA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32D27D-1664-4FF5-89E1-864B0AFCC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B2954D-A680-41E8-BC2E-7A10B3DAD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1CF39C-13FB-48BE-87BF-3DA81AF1A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1F093A-68FF-4A57-BDD8-BC358C77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659EA8-92D2-46DC-9B7D-819820662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AF36E8-721B-408F-A7EF-DC8E71B21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A6AAD1-775F-47BB-B152-B2E1E9B1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665E-007F-4402-A29F-C8D59E351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E459F-09FA-4819-BA4D-4C7E435F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146EAF-0412-4105-8146-6BE48114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7E3DE8-1BB1-4477-A985-E955E099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7F4554-43B2-42CC-BF0B-9D48266A4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DA74B9-73A0-47F4-84FA-078213713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E46327-DC09-4E54-9633-A07B8803C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7657BA-809B-4344-BF96-DB4322350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C5ADAA-C96E-4B71-A816-CF65995B1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709698-1B55-45AC-853E-86DE1B234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F733CE-0AB0-4F5B-9475-037FC8BE2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12C0E6-D582-4A03-BB3C-C17F2DFDC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CB537-EEA0-4135-B00F-DCE8F9AF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DA7C2D-5161-4150-8893-E3C8B5DDB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BB8B23-C9C8-4163-8836-2554B5F9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BDE757-891D-4D09-BF68-3482CF59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785B13-48EA-4DC8-B4AA-B2681DF2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88FE09-30C8-43C9-8570-5E7AEB998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9ACA73-8E60-4E9C-8CA9-585771EF0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86A527-E146-4B68-8E63-E3EB4D8C2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30753A-FBE4-41D0-9739-39CA4A232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7EEF68-2F30-4F93-B9B2-7862944FB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B15163-9168-4220-BA5D-042483F20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5718E-B2C0-4712-AC55-637CBFC2D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0DFEC3-1AE3-4B38-B573-B3EA64B82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87895D-9D3D-4E85-A3F0-7038B48E6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0F0F51-0636-4736-BEFC-5BAA33066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2A62ED-B51E-49C3-A39C-F284BA59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35A000-B30F-4412-8230-3AC83A0F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97E0E8-0624-464F-BBA2-9862BB7A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19BDD5-39AC-472D-82B1-B2667FFB1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DE4D26-8F76-4598-9AA5-C87D30D49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DAE6F7-8D0B-4DF9-B0C5-F46B80680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CAC0C2-85C1-4B8F-8C83-7735239F0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9F99F-0F1B-4501-BDF0-038BE2A16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D37A7A-B35E-46B7-86D1-33EE5F4E7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767D17-0AD7-42F5-858F-E275C5B5B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ED2C4C-5BF9-4734-A2CA-9B0C5D07C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3D0C8D-AFB7-41E0-87C2-76655F44F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CE8EF2-27F8-4E4D-B5E3-E8CBF6F3E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26C76B-75F3-457D-AD6C-1A37EC13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A2B4A2-46DB-4998-B991-D22D18A4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2C6A78-9978-4A38-A5D0-DA9EC3CE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90ED07-1C48-4CBB-824C-25A9D809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302206-1AD2-4D0B-90B4-995A023F3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74A9E-1280-474C-B065-67ECF443B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456F42-2033-49DD-A1D5-2D996E596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CEC6B3-BAA5-48EB-A150-7B56BB6F1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70440F-DA34-4225-A0CC-885A72B24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B025C8-12A6-4378-AFB3-ED2E5CB46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0C3185-FC5E-4BBA-B50A-6BED521A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7BC5C4-66EA-427A-B16A-1864B768A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87C5AD-F922-453E-A067-BC46AF877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CF1385-7344-4C3E-8C76-1F9F66C1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2E08C9-B7F9-4429-B0F9-AD4D2C2C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1A9BBB-1BE6-4AAD-B5FE-333950E5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077CC-365B-41D2-9E3B-00616B4D3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77AB04-9AC0-4E65-8833-486213DF4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183FC9-FCEB-4E36-8CD5-712DFD175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8D905C-F229-4EEB-9CF8-B888AF7CF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3601B3C-0ABD-4419-BE13-C8D8C4ECB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55ABB36-1E86-4EC9-A6C2-8C7FD6685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7A7DD79-86EB-4935-B7AA-5349FA6B8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BDC3CCD-4EB0-4F08-8CDB-C7C0BD1EC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3799D79-EFFC-4F1F-A87A-A2D83055E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F85EA7F-0DBE-4B61-802C-0C8DE1B91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3366D2-3AEA-4624-B186-769FBCCF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8E7FA-699B-4E5D-8AEB-10FACFE4A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8507656-1AEB-4FA6-A686-3056B6E0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49DB3E-2A5E-4159-8352-B69CFB9C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3728D1B-6DC3-478C-95C3-BF0DB5069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533ECAF-C223-472F-8D29-F856BF7F8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07DAD4E-457F-42AA-B859-CAFC6ED44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711DC77-7E28-439F-8E0E-28400EEF9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1A556D2-2424-4433-85B1-8A5D85D3C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CB525ED-7E1E-4471-BEB7-261A71811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B3E6E43-B629-4BE4-AD33-C927D0993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59CCD01-3648-4157-AE80-274FB0D78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E0094-D4D0-4BDE-B4CE-9C959A5AA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FFEA947-85E1-409F-9CA6-FEB270FC7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99DE7D9-596B-48E8-902E-5097FFAD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001925B-7A4F-4A1A-BDFC-34364243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42FA0D6-6E3A-49A9-B375-4C6178F2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E9D01B-B887-4D22-91C1-8F0148E5C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611DD52-5AD8-4BD4-92A7-F1BC06031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5CBA840-2DBC-47AB-86A4-1738D0118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A4099-F5F9-48DF-888A-F40BCD3C3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416C8-565F-44A2-807F-6A78BADCB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09FE-149C-46E3-A3D9-448754727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1FB2C-1795-4FEC-885C-2885B1138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A5F4C-1351-4678-888D-4A559E2A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1AE08-D007-4C7D-9355-492DA2EF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74D04-193A-4F10-9E78-9306227B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206AD-706A-4D05-9B1F-C592CCAB2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AEAB0-400D-485A-A777-4C6F0A3BE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A93C5-338E-4CF0-AACF-D1CBFFF29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658F4-37DE-4C3F-AAA7-3B6DF1C90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83684-75B3-4159-A409-94156030F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F2675-8F39-49BB-BC5D-ADCEC2768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DACA-4FD5-4619-90DD-26A475233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692A4-B323-4A25-8F06-DD8FD5A40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C0524-36DD-4704-AC98-6982284F9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EA069-ED3D-4066-9EF3-B5B5EB1C8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F850E-AF9E-40A1-A1A4-10B18F7A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31DBA-6539-47AF-B2F8-E490E317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BB2E4-EADB-4829-8E04-9FFCB891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A6944-30D9-4591-B747-129167736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8C31C-0847-4093-A4A0-8CF296C55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8BEAA-2D46-474E-9EAB-728EABCEC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EC487-D668-4636-9C98-AA8D3FC25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46B8-ADA9-4369-A88D-9DB080098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5D7A6-563A-4C38-B672-38F63EBC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9B071-311D-456B-93F0-A89F1F3B5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12935-3D7A-4BBB-A19C-86927D766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507E8-EDD1-4866-B23F-9DE3D1017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C290B-3B67-4C1B-86CC-926F11124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2B2A5-378D-4CF1-BE73-291D655E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4E0B7-40C0-4B02-AE5A-B8916C6A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EEE16-3249-4030-817F-2D5A7075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FDF92-715E-4875-881F-8BB2A5B3B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79CED-A088-42F3-BF25-1CC31E64A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9BD0-BE8F-43D3-9F21-AF3BC24C8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317DF-2FF2-413C-8C22-BCCF424BB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375B2-5369-4639-8B09-195CCEF77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4D162-D54C-4312-A719-79BA29F09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ED534-5FC8-43C8-83DC-2D62FC77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70058-3E88-4F09-84A9-45029CBAB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E7045-D668-46FB-B147-EC3CD2196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2682F-310E-432C-8688-2699D99B5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4ACD9-EFB2-4639-80C2-4A2207AF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D4E28-853E-4BB8-AC0F-C3A284DB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BD46F-8F59-4198-89B3-863435D7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7A44-BC32-42B7-A068-CFC617C6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B26BE-7378-465A-886D-B63B3E7FD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D3366A-6E82-421A-89DA-B72D2547C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5E452-DA03-4815-B65F-6B9FF6C8E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2646B-3FD2-44D6-A5D5-E65BBDDC1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984459-0D0C-4E28-9339-B5F0CEB7E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C5D928-7CF2-4C2B-8F20-BA4013321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23DB7-4346-4DE3-8466-DD052C40A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9BC71-C230-44A0-99DF-BF4867492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4F0EC-D091-44A0-BFEC-EA2E6072E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713A3-8BAA-454F-A920-B54AB1CB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6763-4772-4332-B4D7-2040501F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A0F17-BB2A-4559-871C-6B414391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39A07-0B8A-4871-B210-2CEBE3F6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D7964-708F-4DE7-A796-983A97BEF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0DA88-446A-48E3-8103-542796FBF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368A5-E468-4D68-9CE7-1B4D99769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9C8F60-F854-41E7-A8A1-60D70D3A5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6438CD-F4E2-487E-B6C4-70DC9DB5B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D4D5B6-7104-4F38-956A-93B7D02A0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8F6978-2CE9-4376-99B2-1349DC2D8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B889E7-B563-47B2-998C-8053BF3D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7707-D97D-4FFE-99B8-B9706925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B0B1EF-671A-4C8F-BE73-321B3A932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F96864-37C9-4B83-B211-61E2E18E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03F7B1-EC55-4846-82C4-F9443E25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4F39D8-FD86-4F1B-96B2-9144C3A7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9AB95-9D0F-4C11-A493-5226F67B8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AD9F4E-D5AF-46D4-BC7B-C4C8736E2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0B98F-2B03-4651-9E91-45EE6D815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03A03B-CD36-417A-B9A4-39CAD7C4A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463EFA-012D-4018-B001-B3D4D8618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9DC81F-DC4B-4642-BA30-033BB9C76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DFC7E-01AC-40EC-8CBB-094A9ECFDBD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510D-61D7-4F0B-ABFF-03E3DEB9A2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328B9-07DC-44FE-906A-CD53B0D839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A7610-9E30-4278-AF47-BACF109137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57B73-FA51-4718-AB21-3227DC4256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E938-FFF1-4ECD-A24E-50B71F2EB8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CDDA8-BD62-4A7F-AD44-F0A7702EE4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A2656-F879-414D-8040-A475BD95EB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8BADE-F15C-4F14-9BC5-10DE99AC31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433D0-1D04-464C-BB53-E66AADA4FA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86164-DB29-495C-82E1-75F2F468B1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1B115-8CC9-4F3A-9D35-C627585F3C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A42FF-C9B4-4D6B-BFDB-900083CDFE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E3142-CE38-46C3-B57D-0D44B2090C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620E3-AD4B-4724-856A-06D3C23E80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AE4F3-0E58-48A7-9C3B-C784CA586F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43967-CF5B-4684-8DAA-911342A742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B2C49-F6CF-482F-AA7B-4A656FBC8B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4A12A-FCAE-45DF-ACBF-D2C0925A95C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608F-5EC6-470B-9DBB-33C9D5DC29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34107-F7EE-4645-BC8A-96AF0C7FBA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D8586-B86B-4DFE-9181-AB5C329ED7B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7BE92-C145-4715-9BCA-E08AD67246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7B790-03F5-4684-BA86-513E3CDD0D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0235A-0099-4363-9127-5CCD3BF917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ED0BD-E542-47E0-B52C-3E43447A76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215A7-485C-4D16-A278-30F2DC98E1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E63F5-C6EF-4397-9663-4882F5E37B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8506D-CC6A-43AB-BD01-B255B8990D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E20E1-E4CE-4FDC-A2EB-84DA42A23A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E3EDF-AABF-4D77-A78C-690D3A8435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2094B-D367-40F6-8D87-0EC0DED112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C1DE9-1E02-4344-ACEF-2A30CB7BC87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A1898-6136-4022-8C85-FF7E44B48E6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2794B-37E0-440C-B8C1-3C0AD0EF9F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3B563-236C-42F2-A6A6-434798C906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EC763-EF93-4958-88A5-DDDFCB81D6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306F1-3889-4409-B380-39D698C9A1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0A798-0E9B-4B0E-B27A-DAE27F2CE2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F470E-4F88-4C6F-AF10-CED938FCC9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8B6CC-FCF4-4EFA-A12F-9C9DFD87C9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7E42A-96E2-4C8B-888B-243DCC8A50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92160" y="2990880"/>
            <a:ext cx="8959680" cy="12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0" name="图片 1" descr=""/>
          <p:cNvPicPr/>
          <p:nvPr/>
        </p:nvPicPr>
        <p:blipFill>
          <a:blip r:embed="rId1"/>
          <a:stretch/>
        </p:blipFill>
        <p:spPr>
          <a:xfrm>
            <a:off x="295200" y="938160"/>
            <a:ext cx="8553600" cy="498168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1" descr=""/>
          <p:cNvPicPr/>
          <p:nvPr/>
        </p:nvPicPr>
        <p:blipFill>
          <a:blip r:embed="rId2"/>
          <a:stretch/>
        </p:blipFill>
        <p:spPr>
          <a:xfrm>
            <a:off x="900000" y="5430960"/>
            <a:ext cx="503280" cy="40932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1" descr=""/>
          <p:cNvPicPr/>
          <p:nvPr/>
        </p:nvPicPr>
        <p:blipFill>
          <a:blip r:embed="rId3"/>
          <a:stretch/>
        </p:blipFill>
        <p:spPr>
          <a:xfrm>
            <a:off x="2700360" y="5416560"/>
            <a:ext cx="503280" cy="40968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1" descr=""/>
          <p:cNvPicPr/>
          <p:nvPr/>
        </p:nvPicPr>
        <p:blipFill>
          <a:blip r:embed="rId4"/>
          <a:stretch/>
        </p:blipFill>
        <p:spPr>
          <a:xfrm>
            <a:off x="4500720" y="5416560"/>
            <a:ext cx="502920" cy="40968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1" descr=""/>
          <p:cNvPicPr/>
          <p:nvPr/>
        </p:nvPicPr>
        <p:blipFill>
          <a:blip r:embed="rId5"/>
          <a:stretch/>
        </p:blipFill>
        <p:spPr>
          <a:xfrm>
            <a:off x="6227640" y="5402160"/>
            <a:ext cx="503280" cy="40968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" descr=""/>
          <p:cNvPicPr/>
          <p:nvPr/>
        </p:nvPicPr>
        <p:blipFill>
          <a:blip r:embed="rId6"/>
          <a:stretch/>
        </p:blipFill>
        <p:spPr>
          <a:xfrm>
            <a:off x="7956720" y="5430960"/>
            <a:ext cx="502920" cy="40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6" name="图片 1" descr=""/>
          <p:cNvPicPr/>
          <p:nvPr/>
        </p:nvPicPr>
        <p:blipFill>
          <a:blip r:embed="rId1"/>
          <a:stretch/>
        </p:blipFill>
        <p:spPr>
          <a:xfrm>
            <a:off x="200160" y="979560"/>
            <a:ext cx="8743680" cy="535284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1" descr=""/>
          <p:cNvPicPr/>
          <p:nvPr/>
        </p:nvPicPr>
        <p:blipFill>
          <a:blip r:embed="rId2"/>
          <a:stretch/>
        </p:blipFill>
        <p:spPr>
          <a:xfrm>
            <a:off x="7308720" y="2046240"/>
            <a:ext cx="1295640" cy="40968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1" descr=""/>
          <p:cNvPicPr/>
          <p:nvPr/>
        </p:nvPicPr>
        <p:blipFill>
          <a:blip r:embed="rId3"/>
          <a:stretch/>
        </p:blipFill>
        <p:spPr>
          <a:xfrm>
            <a:off x="3851280" y="2595600"/>
            <a:ext cx="1295280" cy="40968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1" descr=""/>
          <p:cNvPicPr/>
          <p:nvPr/>
        </p:nvPicPr>
        <p:blipFill>
          <a:blip r:embed="rId4"/>
          <a:stretch/>
        </p:blipFill>
        <p:spPr>
          <a:xfrm>
            <a:off x="4788000" y="4192560"/>
            <a:ext cx="1728720" cy="40968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1" descr=""/>
          <p:cNvPicPr/>
          <p:nvPr/>
        </p:nvPicPr>
        <p:blipFill>
          <a:blip r:embed="rId5"/>
          <a:stretch/>
        </p:blipFill>
        <p:spPr>
          <a:xfrm>
            <a:off x="885960" y="5286240"/>
            <a:ext cx="1512720" cy="40968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1" descr=""/>
          <p:cNvPicPr/>
          <p:nvPr/>
        </p:nvPicPr>
        <p:blipFill>
          <a:blip r:embed="rId6"/>
          <a:stretch/>
        </p:blipFill>
        <p:spPr>
          <a:xfrm>
            <a:off x="826920" y="5819760"/>
            <a:ext cx="151308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2" name="图片 1" descr=""/>
          <p:cNvPicPr/>
          <p:nvPr/>
        </p:nvPicPr>
        <p:blipFill>
          <a:blip r:embed="rId1"/>
          <a:stretch/>
        </p:blipFill>
        <p:spPr>
          <a:xfrm>
            <a:off x="181080" y="1009800"/>
            <a:ext cx="8781840" cy="483840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1" descr=""/>
          <p:cNvPicPr/>
          <p:nvPr/>
        </p:nvPicPr>
        <p:blipFill>
          <a:blip r:embed="rId2"/>
          <a:stretch/>
        </p:blipFill>
        <p:spPr>
          <a:xfrm>
            <a:off x="2916360" y="965160"/>
            <a:ext cx="1368360" cy="409680"/>
          </a:xfrm>
          <a:prstGeom prst="rect">
            <a:avLst/>
          </a:prstGeom>
          <a:ln w="0">
            <a:noFill/>
          </a:ln>
        </p:spPr>
      </p:pic>
      <p:pic>
        <p:nvPicPr>
          <p:cNvPr id="1144" name="Picture 1" descr=""/>
          <p:cNvPicPr/>
          <p:nvPr/>
        </p:nvPicPr>
        <p:blipFill>
          <a:blip r:embed="rId3"/>
          <a:stretch/>
        </p:blipFill>
        <p:spPr>
          <a:xfrm>
            <a:off x="900000" y="1512720"/>
            <a:ext cx="1943280" cy="409680"/>
          </a:xfrm>
          <a:prstGeom prst="rect">
            <a:avLst/>
          </a:prstGeom>
          <a:ln w="0">
            <a:noFill/>
          </a:ln>
        </p:spPr>
      </p:pic>
      <p:pic>
        <p:nvPicPr>
          <p:cNvPr id="1145" name="Picture 1" descr=""/>
          <p:cNvPicPr/>
          <p:nvPr/>
        </p:nvPicPr>
        <p:blipFill>
          <a:blip r:embed="rId4"/>
          <a:stretch/>
        </p:blipFill>
        <p:spPr>
          <a:xfrm>
            <a:off x="971640" y="2060640"/>
            <a:ext cx="1655640" cy="409680"/>
          </a:xfrm>
          <a:prstGeom prst="rect">
            <a:avLst/>
          </a:prstGeom>
          <a:ln w="0">
            <a:noFill/>
          </a:ln>
        </p:spPr>
      </p:pic>
      <p:pic>
        <p:nvPicPr>
          <p:cNvPr id="1146" name="Picture 1" descr=""/>
          <p:cNvPicPr/>
          <p:nvPr/>
        </p:nvPicPr>
        <p:blipFill>
          <a:blip r:embed="rId5"/>
          <a:stretch/>
        </p:blipFill>
        <p:spPr>
          <a:xfrm>
            <a:off x="2340000" y="2593800"/>
            <a:ext cx="1368360" cy="409680"/>
          </a:xfrm>
          <a:prstGeom prst="rect">
            <a:avLst/>
          </a:prstGeom>
          <a:ln w="0">
            <a:noFill/>
          </a:ln>
        </p:spPr>
      </p:pic>
      <p:pic>
        <p:nvPicPr>
          <p:cNvPr id="1147" name="Picture 1" descr=""/>
          <p:cNvPicPr/>
          <p:nvPr/>
        </p:nvPicPr>
        <p:blipFill>
          <a:blip r:embed="rId6"/>
          <a:stretch/>
        </p:blipFill>
        <p:spPr>
          <a:xfrm>
            <a:off x="1979640" y="3673440"/>
            <a:ext cx="1368360" cy="409680"/>
          </a:xfrm>
          <a:prstGeom prst="rect">
            <a:avLst/>
          </a:prstGeom>
          <a:ln w="0">
            <a:noFill/>
          </a:ln>
        </p:spPr>
      </p:pic>
      <p:pic>
        <p:nvPicPr>
          <p:cNvPr id="1148" name="Picture 1" descr=""/>
          <p:cNvPicPr/>
          <p:nvPr/>
        </p:nvPicPr>
        <p:blipFill>
          <a:blip r:embed="rId7"/>
          <a:stretch/>
        </p:blipFill>
        <p:spPr>
          <a:xfrm>
            <a:off x="1116000" y="4206960"/>
            <a:ext cx="1800360" cy="409320"/>
          </a:xfrm>
          <a:prstGeom prst="rect">
            <a:avLst/>
          </a:prstGeom>
          <a:ln w="0">
            <a:noFill/>
          </a:ln>
        </p:spPr>
      </p:pic>
      <p:pic>
        <p:nvPicPr>
          <p:cNvPr id="1149" name="Picture 1" descr=""/>
          <p:cNvPicPr/>
          <p:nvPr/>
        </p:nvPicPr>
        <p:blipFill>
          <a:blip r:embed="rId8"/>
          <a:stretch/>
        </p:blipFill>
        <p:spPr>
          <a:xfrm>
            <a:off x="6084720" y="4206960"/>
            <a:ext cx="1368720" cy="409320"/>
          </a:xfrm>
          <a:prstGeom prst="rect">
            <a:avLst/>
          </a:prstGeom>
          <a:ln w="0">
            <a:noFill/>
          </a:ln>
        </p:spPr>
      </p:pic>
      <p:pic>
        <p:nvPicPr>
          <p:cNvPr id="1150" name="Picture 1" descr=""/>
          <p:cNvPicPr/>
          <p:nvPr/>
        </p:nvPicPr>
        <p:blipFill>
          <a:blip r:embed="rId9"/>
          <a:stretch/>
        </p:blipFill>
        <p:spPr>
          <a:xfrm>
            <a:off x="3203640" y="5300640"/>
            <a:ext cx="259236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图片 1" descr=""/>
          <p:cNvPicPr/>
          <p:nvPr/>
        </p:nvPicPr>
        <p:blipFill>
          <a:blip r:embed="rId1"/>
          <a:stretch/>
        </p:blipFill>
        <p:spPr>
          <a:xfrm>
            <a:off x="168120" y="431640"/>
            <a:ext cx="8809200" cy="637236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1" descr=""/>
          <p:cNvPicPr/>
          <p:nvPr/>
        </p:nvPicPr>
        <p:blipFill>
          <a:blip r:embed="rId2"/>
          <a:stretch/>
        </p:blipFill>
        <p:spPr>
          <a:xfrm>
            <a:off x="684360" y="1052640"/>
            <a:ext cx="502920" cy="40932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" descr=""/>
          <p:cNvPicPr/>
          <p:nvPr/>
        </p:nvPicPr>
        <p:blipFill>
          <a:blip r:embed="rId3"/>
          <a:stretch/>
        </p:blipFill>
        <p:spPr>
          <a:xfrm>
            <a:off x="611280" y="3716280"/>
            <a:ext cx="50328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0" name="图片 1" descr=""/>
          <p:cNvPicPr/>
          <p:nvPr/>
        </p:nvPicPr>
        <p:blipFill>
          <a:blip r:embed="rId1"/>
          <a:stretch/>
        </p:blipFill>
        <p:spPr>
          <a:xfrm>
            <a:off x="195120" y="1281240"/>
            <a:ext cx="8751960" cy="429552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2"/>
          <a:stretch/>
        </p:blipFill>
        <p:spPr>
          <a:xfrm>
            <a:off x="611280" y="1268280"/>
            <a:ext cx="503280" cy="40968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3"/>
          <a:stretch/>
        </p:blipFill>
        <p:spPr>
          <a:xfrm>
            <a:off x="611280" y="3500280"/>
            <a:ext cx="50328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图片 1" descr=""/>
          <p:cNvPicPr/>
          <p:nvPr/>
        </p:nvPicPr>
        <p:blipFill>
          <a:blip r:embed="rId1"/>
          <a:stretch/>
        </p:blipFill>
        <p:spPr>
          <a:xfrm>
            <a:off x="237960" y="2433600"/>
            <a:ext cx="8668080" cy="199080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1" descr=""/>
          <p:cNvPicPr/>
          <p:nvPr/>
        </p:nvPicPr>
        <p:blipFill>
          <a:blip r:embed="rId2"/>
          <a:stretch/>
        </p:blipFill>
        <p:spPr>
          <a:xfrm>
            <a:off x="684360" y="2421000"/>
            <a:ext cx="50292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5" name="图片 1" descr=""/>
          <p:cNvPicPr/>
          <p:nvPr/>
        </p:nvPicPr>
        <p:blipFill>
          <a:blip r:embed="rId1"/>
          <a:stretch/>
        </p:blipFill>
        <p:spPr>
          <a:xfrm>
            <a:off x="219240" y="1609560"/>
            <a:ext cx="8705520" cy="363888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1" descr=""/>
          <p:cNvPicPr/>
          <p:nvPr/>
        </p:nvPicPr>
        <p:blipFill>
          <a:blip r:embed="rId2"/>
          <a:stretch/>
        </p:blipFill>
        <p:spPr>
          <a:xfrm>
            <a:off x="2843280" y="2162160"/>
            <a:ext cx="1297080" cy="40968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3"/>
          <a:stretch/>
        </p:blipFill>
        <p:spPr>
          <a:xfrm>
            <a:off x="1547640" y="2693880"/>
            <a:ext cx="1297080" cy="40968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4"/>
          <a:stretch/>
        </p:blipFill>
        <p:spPr>
          <a:xfrm>
            <a:off x="4500720" y="3241800"/>
            <a:ext cx="1296720" cy="40932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5"/>
          <a:stretch/>
        </p:blipFill>
        <p:spPr>
          <a:xfrm>
            <a:off x="4067280" y="3774960"/>
            <a:ext cx="1584360" cy="40968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1" descr=""/>
          <p:cNvPicPr/>
          <p:nvPr/>
        </p:nvPicPr>
        <p:blipFill>
          <a:blip r:embed="rId6"/>
          <a:stretch/>
        </p:blipFill>
        <p:spPr>
          <a:xfrm>
            <a:off x="5076720" y="4307040"/>
            <a:ext cx="1584360" cy="40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1" name="图片 1" descr=""/>
          <p:cNvPicPr/>
          <p:nvPr/>
        </p:nvPicPr>
        <p:blipFill>
          <a:blip r:embed="rId1"/>
          <a:stretch/>
        </p:blipFill>
        <p:spPr>
          <a:xfrm>
            <a:off x="200160" y="1504800"/>
            <a:ext cx="8743680" cy="384840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1" descr=""/>
          <p:cNvPicPr/>
          <p:nvPr/>
        </p:nvPicPr>
        <p:blipFill>
          <a:blip r:embed="rId2"/>
          <a:stretch/>
        </p:blipFill>
        <p:spPr>
          <a:xfrm>
            <a:off x="684360" y="2665440"/>
            <a:ext cx="2663640" cy="40968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1" descr=""/>
          <p:cNvPicPr/>
          <p:nvPr/>
        </p:nvPicPr>
        <p:blipFill>
          <a:blip r:embed="rId3"/>
          <a:stretch/>
        </p:blipFill>
        <p:spPr>
          <a:xfrm>
            <a:off x="4932360" y="4278240"/>
            <a:ext cx="266400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4" name="图片 1" descr=""/>
          <p:cNvPicPr/>
          <p:nvPr/>
        </p:nvPicPr>
        <p:blipFill>
          <a:blip r:embed="rId1"/>
          <a:stretch/>
        </p:blipFill>
        <p:spPr>
          <a:xfrm>
            <a:off x="243000" y="1490760"/>
            <a:ext cx="8656560" cy="387648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1" descr=""/>
          <p:cNvPicPr/>
          <p:nvPr/>
        </p:nvPicPr>
        <p:blipFill>
          <a:blip r:embed="rId2"/>
          <a:stretch/>
        </p:blipFill>
        <p:spPr>
          <a:xfrm>
            <a:off x="826920" y="2017800"/>
            <a:ext cx="2665440" cy="40932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1" descr=""/>
          <p:cNvPicPr/>
          <p:nvPr/>
        </p:nvPicPr>
        <p:blipFill>
          <a:blip r:embed="rId3"/>
          <a:stretch/>
        </p:blipFill>
        <p:spPr>
          <a:xfrm>
            <a:off x="2124000" y="3068640"/>
            <a:ext cx="3960720" cy="40968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1" descr=""/>
          <p:cNvPicPr/>
          <p:nvPr/>
        </p:nvPicPr>
        <p:blipFill>
          <a:blip r:embed="rId4"/>
          <a:stretch/>
        </p:blipFill>
        <p:spPr>
          <a:xfrm>
            <a:off x="4572000" y="4681440"/>
            <a:ext cx="295272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8" name="图片 1" descr=""/>
          <p:cNvPicPr/>
          <p:nvPr/>
        </p:nvPicPr>
        <p:blipFill>
          <a:blip r:embed="rId1"/>
          <a:stretch/>
        </p:blipFill>
        <p:spPr>
          <a:xfrm>
            <a:off x="195120" y="1014480"/>
            <a:ext cx="875196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9" name="图片 1" descr=""/>
          <p:cNvPicPr/>
          <p:nvPr/>
        </p:nvPicPr>
        <p:blipFill>
          <a:blip r:embed="rId1"/>
          <a:stretch/>
        </p:blipFill>
        <p:spPr>
          <a:xfrm>
            <a:off x="200160" y="1533600"/>
            <a:ext cx="874368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18:18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